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1B99-F489-4D35-ACB0-C8A4B36AEAF8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2EE7-2EA1-4A48-8210-D764A70C94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B7C6-A830-4ED7-A293-27D64236A4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2B83-DBFF-4136-BD9A-54349FC5B8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A5C6-56F9-4930-809B-B4092070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67D0-FFF5-44A5-B417-6E2AD904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13B9-AE88-4737-AD1F-E1198E3E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14E8-130E-46F7-9C9A-E492939CC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2548-3860-4AAD-9695-21629E70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04F9-E521-4792-918E-215C744E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E668-950A-4FD4-9643-D2604C20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BF79-C3AE-48AA-B425-40A5989F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FB4F-B7C2-4807-A538-D414C2E4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B158-3F2E-4342-ABDB-1E1DE748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8F64-7F7A-4A9F-861F-F0C0930A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F6D9-2412-4030-8C0B-643AFA3E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17B4-7E80-45D8-AFFD-10AF4261F54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AB38-67AD-4E19-BED0-1379476038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p-science.thomsonreuters.com/info/journalsubmission/" TargetMode="External"/><Relationship Id="rId2" Type="http://schemas.openxmlformats.org/officeDocument/2006/relationships/hyperlink" Target="http://ip-science.thomsonreuters.com/info/journalsubmission/" TargetMode="External"/><Relationship Id="rId3" Type="http://schemas.openxmlformats.org/officeDocument/2006/relationships/hyperlink" Target="http://ip-science.thomsonreuters.com/info/journalsubmission/" TargetMode="External"/><Relationship Id="rId4" Type="http://schemas.openxmlformats.org/officeDocument/2006/relationships/hyperlink" Target="http://ip-science.thomsonreuters.com/info/journalsubmission/" TargetMode="External"/><Relationship Id="rId5" Type="http://schemas.openxmlformats.org/officeDocument/2006/relationships/hyperlink" Target="http://ip-science.thomsonreuters.com/info/journalsubmission/" TargetMode="External"/><Relationship Id="rId6" Type="http://schemas.openxmlformats.org/officeDocument/2006/relationships/hyperlink" Target="http://ip-science.thomsonreuters.com/info/journalsubmission/" TargetMode="External"/><Relationship Id="rId7" Type="http://schemas.openxmlformats.org/officeDocument/2006/relationships/hyperlink" Target="http://ip-science.thomsonreuters.com/info/journalsubmission/" TargetMode="External"/><Relationship Id="rId8" Type="http://schemas.openxmlformats.org/officeDocument/2006/relationships/hyperlink" Target="http://ip-science.thomsonreuters.com/info/journalsubmission/" TargetMode="External"/><Relationship Id="rId9" Type="http://schemas.openxmlformats.org/officeDocument/2006/relationships/hyperlink" Target="http://ip-science.thomsonreuters.com/info/journalsubmission/" TargetMode="External"/><Relationship Id="rId10" Type="http://schemas.openxmlformats.org/officeDocument/2006/relationships/hyperlink" Target="http://ip-science.thomsonreuters.com/info/journalsubmission/" TargetMode="External"/><Relationship Id="rId11" Type="http://schemas.openxmlformats.org/officeDocument/2006/relationships/hyperlink" Target="http://ip-science.thomsonreuters.com/info/journalsubmission/" TargetMode="External"/><Relationship Id="rId12" Type="http://schemas.openxmlformats.org/officeDocument/2006/relationships/hyperlink" Target="http://ip-science.thomsonreuters.com/info/journalsubmission/" TargetMode="External"/><Relationship Id="rId13" Type="http://schemas.openxmlformats.org/officeDocument/2006/relationships/hyperlink" Target="http://ip-science.thomsonreuters.com/info/journalsubmission/" TargetMode="External"/><Relationship Id="rId14" Type="http://schemas.openxmlformats.org/officeDocument/2006/relationships/hyperlink" Target="http://ip-science.thomsonreuters.com/info/journalsubmission/" TargetMode="External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pscience.thomsonreuters.com/info/jrneval-status/" TargetMode="External"/><Relationship Id="rId2" Type="http://schemas.openxmlformats.org/officeDocument/2006/relationships/hyperlink" Target="http://ipscience.thomsonreuters.com/info/jrneval-status/" TargetMode="External"/><Relationship Id="rId3" Type="http://schemas.openxmlformats.org/officeDocument/2006/relationships/hyperlink" Target="http://ipscience.thomsonreuters.com/info/jrneval-status/" TargetMode="External"/><Relationship Id="rId4" Type="http://schemas.openxmlformats.org/officeDocument/2006/relationships/hyperlink" Target="http://ipscience.thomsonreuters.com/info/jrneval-status/" TargetMode="External"/><Relationship Id="rId5" Type="http://schemas.openxmlformats.org/officeDocument/2006/relationships/hyperlink" Target="http://ipscience.thomsonreuters.com/info/jrneval-status/" TargetMode="External"/><Relationship Id="rId6" Type="http://schemas.openxmlformats.org/officeDocument/2006/relationships/hyperlink" Target="http://ipscience.thomsonreuters.com/info/jrneval-status/" TargetMode="External"/><Relationship Id="rId7" Type="http://schemas.openxmlformats.org/officeDocument/2006/relationships/hyperlink" Target="http://ipscience.thomsonreuters.com/info/jrneval-status/" TargetMode="External"/><Relationship Id="rId8" Type="http://schemas.openxmlformats.org/officeDocument/2006/relationships/hyperlink" Target="http://ipscience.thomsonreuters.com/info/jrneval-status/" TargetMode="External"/><Relationship Id="rId9" Type="http://schemas.openxmlformats.org/officeDocument/2006/relationships/hyperlink" Target="http://ipscience.thomsonreuters.com/info/jrneval-status/" TargetMode="External"/><Relationship Id="rId10" Type="http://schemas.openxmlformats.org/officeDocument/2006/relationships/hyperlink" Target="http://ipscience.thomsonreuters.com/info/jrneval-status/" TargetMode="Externa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lsevier.com/" TargetMode="External"/><Relationship Id="rId2" Type="http://schemas.openxmlformats.org/officeDocument/2006/relationships/hyperlink" Target="http://www.elsevier.com/" TargetMode="External"/><Relationship Id="rId3" Type="http://schemas.openxmlformats.org/officeDocument/2006/relationships/hyperlink" Target="http://www.elsevier.com/" TargetMode="External"/><Relationship Id="rId4" Type="http://schemas.openxmlformats.org/officeDocument/2006/relationships/hyperlink" Target="http://www.elsevier.com/" TargetMode="External"/><Relationship Id="rId5" Type="http://schemas.openxmlformats.org/officeDocument/2006/relationships/hyperlink" Target="http://www.elsevier.com/" TargetMode="External"/><Relationship Id="rId6" Type="http://schemas.openxmlformats.org/officeDocument/2006/relationships/hyperlink" Target="http://www.editorialmanager.com/" TargetMode="External"/><Relationship Id="rId7" Type="http://schemas.openxmlformats.org/officeDocument/2006/relationships/hyperlink" Target="http://www.editorialmanager.com/" TargetMode="External"/><Relationship Id="rId8" Type="http://schemas.openxmlformats.org/officeDocument/2006/relationships/hyperlink" Target="http://www.editorialmanager.com/" TargetMode="External"/><Relationship Id="rId9" Type="http://schemas.openxmlformats.org/officeDocument/2006/relationships/hyperlink" Target="http://www.editorialmanager.com/" TargetMode="External"/><Relationship Id="rId10" Type="http://schemas.openxmlformats.org/officeDocument/2006/relationships/hyperlink" Target="http://www.editorialmanager.com/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79280" y="1620360"/>
            <a:ext cx="878544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 принципах включения журнала </a:t>
            </a:r>
            <a:r>
              <a:rPr b="1" i="1" lang="kk-KZ" sz="2800" spc="-1" strike="noStrike">
                <a:solidFill>
                  <a:srgbClr val="000000"/>
                </a:solidFill>
                <a:latin typeface="Times New Roman"/>
              </a:rPr>
              <a:t>в международные базы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Шайкин Д.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еверо-Казахстанский государственный университ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им. М. Козыба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2600" y="414720"/>
            <a:ext cx="9131400" cy="47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дре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который издател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гу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ылат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урнал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ценк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отбора в базу данных компа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omson Reuters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едующи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ublication Processing, Thomson Reuters, 1500 Spring Garden Street, Fourth Floor, Philadelphia, PA 191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правки электронных публикаций необходимо заполнить специальную форму н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</a:t>
            </a:r>
            <a:r>
              <a:rPr b="0" lang="ru-RU" sz="25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://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ip</a:t>
            </a:r>
            <a:r>
              <a:rPr b="0" lang="ru-RU" sz="25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-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science</a:t>
            </a:r>
            <a:r>
              <a:rPr b="0" lang="ru-RU" sz="25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thomsonreuters</a:t>
            </a:r>
            <a:r>
              <a:rPr b="0" lang="ru-RU" sz="25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.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com</a:t>
            </a:r>
            <a:r>
              <a:rPr b="0" lang="ru-RU" sz="25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/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info</a:t>
            </a:r>
            <a:r>
              <a:rPr b="0" lang="ru-RU" sz="25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/</a:t>
            </a:r>
            <a:r>
              <a:rPr b="0" lang="en-US" sz="25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journalsubmission</a:t>
            </a:r>
            <a:r>
              <a:rPr b="0" lang="ru-RU" sz="25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/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2600" y="1458360"/>
            <a:ext cx="9131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ть информацию о стату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равленной заявки по включению журн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азу данных компани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omson Reu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посредством отправки запроса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ipscience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thomsonreuters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com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info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jrneval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-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status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79280" y="379800"/>
            <a:ext cx="8875800" cy="60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основные принципы отбора журн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Основные стандарты публик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е значение здесь имее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спертная оценка (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er review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тельно, чтобы статьи, подаваемые в журнал, претендующий на включение 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у данных компани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omson Reuter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ходили экспертную оценку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er review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рекомендуются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elsevier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com</a:t>
            </a:r>
            <a:r>
              <a:rPr b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www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editorialmanager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com</a:t>
            </a:r>
            <a:r>
              <a:rPr b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mc</a:t>
            </a:r>
            <a:r>
              <a:rPr b="1" lang="ru-RU" sz="24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1" lang="en-US" sz="24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manuscriptcentral</a:t>
            </a:r>
            <a:r>
              <a:rPr b="1" lang="ru-RU" sz="24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1" lang="en-US" sz="2400" spc="-1" strike="noStrike" u="sng">
                <a:solidFill>
                  <a:srgbClr val="262673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1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добные им). Указанные провайдеры принадлежат таким издательским домам как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aylor and Francis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iley Blackwell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ringer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Elsevie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.д. Они располагаются в таких странах как Англия, США, Германия и Нидерла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держание жур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еждународный соста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Анализ цитир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Общественные на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Гуманитарные нау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Электронные журна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539640" y="1037880"/>
            <a:ext cx="828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АЖНОЙ ОСОБЕННОСТЬЮ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убликации статей в журналах, претендующих на включение в международные базы данных компании, является ее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трукту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ая должна включать в себя следующие разделы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введение или литературный обзо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четко сформулированную цель иссле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методолог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основные результаты иссле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вы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79280" y="2780640"/>
            <a:ext cx="878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оклад окончен, спасибо за внима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5T03:46:01Z</dcterms:created>
  <dc:creator>dshajkin</dc:creator>
  <dc:description/>
  <dc:language>en-US</dc:language>
  <cp:lastModifiedBy>notebook red</cp:lastModifiedBy>
  <dcterms:modified xsi:type="dcterms:W3CDTF">2014-02-26T03:09:05Z</dcterms:modified>
  <cp:revision>35</cp:revision>
  <dc:subject/>
  <dc:title>Слайд 1</dc:title>
</cp:coreProperties>
</file>