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B68D-2558-47D8-9FC5-CC348FB68319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BBC5-4909-4AB1-94E9-5F8C8A446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CA63-C1FB-47EF-9F56-CA0B4900B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5ED7-D6BE-4BD5-93A5-38291C5EC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2EC-0880-4F40-97E9-1B9C277E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3F8-6246-4F0E-BDF7-D4729442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AB9-87F9-4D2A-8200-A7D9905C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F4D-55C5-42C9-9C9D-4B2EF294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8CA-6E40-400E-8480-482B834B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3E6-FD94-458D-993C-F4D4685F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A12-0F28-498D-B78B-DEE9AD45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DC1-7E4B-4C3A-872B-08CCAAF2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183-F308-40ED-BA95-FF90B16E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F1D-915F-4550-9E0F-E6E2E13E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0F4-BB24-4B77-923A-1918ADA7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801-B293-4619-860A-86D8AD9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E385-17CE-45EE-BA54-1513B00AFC9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E234-944A-463E-9CEF-21D295351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p-science.thomsonreuters.com/info/journalsubmission/" TargetMode="External"/><Relationship Id="rId2" Type="http://schemas.openxmlformats.org/officeDocument/2006/relationships/hyperlink" Target="http://ip-science.thomsonreuters.com/info/journalsubmission/" TargetMode="External"/><Relationship Id="rId3" Type="http://schemas.openxmlformats.org/officeDocument/2006/relationships/hyperlink" Target="http://ip-science.thomsonreuters.com/info/journalsubmission/" TargetMode="External"/><Relationship Id="rId4" Type="http://schemas.openxmlformats.org/officeDocument/2006/relationships/hyperlink" Target="http://ip-science.thomsonreuters.com/info/journalsubmission/" TargetMode="External"/><Relationship Id="rId5" Type="http://schemas.openxmlformats.org/officeDocument/2006/relationships/hyperlink" Target="http://ip-science.thomsonreuters.com/info/journalsubmission/" TargetMode="External"/><Relationship Id="rId6" Type="http://schemas.openxmlformats.org/officeDocument/2006/relationships/hyperlink" Target="http://ip-science.thomsonreuters.com/info/journalsubmission/" TargetMode="External"/><Relationship Id="rId7" Type="http://schemas.openxmlformats.org/officeDocument/2006/relationships/hyperlink" Target="http://ip-science.thomsonreuters.com/info/journalsubmission/" TargetMode="External"/><Relationship Id="rId8" Type="http://schemas.openxmlformats.org/officeDocument/2006/relationships/hyperlink" Target="http://ip-science.thomsonreuters.com/info/journalsubmission/" TargetMode="External"/><Relationship Id="rId9" Type="http://schemas.openxmlformats.org/officeDocument/2006/relationships/hyperlink" Target="http://ip-science.thomsonreuters.com/info/journalsubmission/" TargetMode="External"/><Relationship Id="rId10" Type="http://schemas.openxmlformats.org/officeDocument/2006/relationships/hyperlink" Target="http://ip-science.thomsonreuters.com/info/journalsubmission/" TargetMode="External"/><Relationship Id="rId11" Type="http://schemas.openxmlformats.org/officeDocument/2006/relationships/hyperlink" Target="http://ip-science.thomsonreuters.com/info/journalsubmission/" TargetMode="External"/><Relationship Id="rId12" Type="http://schemas.openxmlformats.org/officeDocument/2006/relationships/hyperlink" Target="http://ip-science.thomsonreuters.com/info/journalsubmission/" TargetMode="External"/><Relationship Id="rId13" Type="http://schemas.openxmlformats.org/officeDocument/2006/relationships/hyperlink" Target="http://ip-science.thomsonreuters.com/info/journalsubmission/" TargetMode="External"/><Relationship Id="rId14" Type="http://schemas.openxmlformats.org/officeDocument/2006/relationships/hyperlink" Target="http://ip-science.thomsonreuters.com/info/journalsubmission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pscience.thomsonreuters.com/info/jrneval-status/" TargetMode="External"/><Relationship Id="rId2" Type="http://schemas.openxmlformats.org/officeDocument/2006/relationships/hyperlink" Target="http://ipscience.thomsonreuters.com/info/jrneval-status/" TargetMode="External"/><Relationship Id="rId3" Type="http://schemas.openxmlformats.org/officeDocument/2006/relationships/hyperlink" Target="http://ipscience.thomsonreuters.com/info/jrneval-status/" TargetMode="External"/><Relationship Id="rId4" Type="http://schemas.openxmlformats.org/officeDocument/2006/relationships/hyperlink" Target="http://ipscience.thomsonreuters.com/info/jrneval-status/" TargetMode="External"/><Relationship Id="rId5" Type="http://schemas.openxmlformats.org/officeDocument/2006/relationships/hyperlink" Target="http://ipscience.thomsonreuters.com/info/jrneval-status/" TargetMode="External"/><Relationship Id="rId6" Type="http://schemas.openxmlformats.org/officeDocument/2006/relationships/hyperlink" Target="http://ipscience.thomsonreuters.com/info/jrneval-status/" TargetMode="External"/><Relationship Id="rId7" Type="http://schemas.openxmlformats.org/officeDocument/2006/relationships/hyperlink" Target="http://ipscience.thomsonreuters.com/info/jrneval-status/" TargetMode="External"/><Relationship Id="rId8" Type="http://schemas.openxmlformats.org/officeDocument/2006/relationships/hyperlink" Target="http://ipscience.thomsonreuters.com/info/jrneval-status/" TargetMode="External"/><Relationship Id="rId9" Type="http://schemas.openxmlformats.org/officeDocument/2006/relationships/hyperlink" Target="http://ipscience.thomsonreuters.com/info/jrneval-status/" TargetMode="External"/><Relationship Id="rId10" Type="http://schemas.openxmlformats.org/officeDocument/2006/relationships/hyperlink" Target="http://ipscience.thomsonreuters.com/info/jrneval-status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lsevier.com/" TargetMode="External"/><Relationship Id="rId2" Type="http://schemas.openxmlformats.org/officeDocument/2006/relationships/hyperlink" Target="http://www.elsevier.com/" TargetMode="External"/><Relationship Id="rId3" Type="http://schemas.openxmlformats.org/officeDocument/2006/relationships/hyperlink" Target="http://www.elsevier.com/" TargetMode="External"/><Relationship Id="rId4" Type="http://schemas.openxmlformats.org/officeDocument/2006/relationships/hyperlink" Target="http://www.elsevier.com/" TargetMode="External"/><Relationship Id="rId5" Type="http://schemas.openxmlformats.org/officeDocument/2006/relationships/hyperlink" Target="http://www.elsevier.com/" TargetMode="External"/><Relationship Id="rId6" Type="http://schemas.openxmlformats.org/officeDocument/2006/relationships/hyperlink" Target="http://www.editorialmanager.com/" TargetMode="External"/><Relationship Id="rId7" Type="http://schemas.openxmlformats.org/officeDocument/2006/relationships/hyperlink" Target="http://www.editorialmanager.com/" TargetMode="External"/><Relationship Id="rId8" Type="http://schemas.openxmlformats.org/officeDocument/2006/relationships/hyperlink" Target="http://www.editorialmanager.com/" TargetMode="External"/><Relationship Id="rId9" Type="http://schemas.openxmlformats.org/officeDocument/2006/relationships/hyperlink" Target="http://www.editorialmanager.com/" TargetMode="External"/><Relationship Id="rId10" Type="http://schemas.openxmlformats.org/officeDocument/2006/relationships/hyperlink" Target="http://www.editorialmanager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1620360"/>
            <a:ext cx="8785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 принципах включения журнала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в международные баз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Шайкин Д.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веро-Казахстанский государственный универс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м. М. Козыба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600" y="414720"/>
            <a:ext cx="913140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торый издател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ыла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урнал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цен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бора в базу данных комп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son Reuters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ующ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ation Processing, Thomson Reuters, 1500 Spring Garden Street, Fourth Floor, Philadelphia, PA 19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правки электронных публикаций необходимо заполнить специальную форму 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p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-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science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thomsonreuters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com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info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journalsubmission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600" y="1458360"/>
            <a:ext cx="913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информацию о стату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ленной заявки по включению журн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зу данных компани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son Re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осредством отправки запрос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pscience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thomsonreuters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com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info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jrneval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status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79280" y="379800"/>
            <a:ext cx="887580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новные принципы отбора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стандарты публ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значение здесь име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ертная оценка (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er review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, чтобы статьи, подаваемые в журнал, претендующий на включение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 данных компан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mson Reuter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или экспертную оценку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 revie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екомендуются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elsevi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editorialmanag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mc</a:t>
            </a:r>
            <a:r>
              <a:rPr b="1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manuscriptcentral</a:t>
            </a:r>
            <a:r>
              <a:rPr b="1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обные им). Указанные провайдеры принадлежат таким издательским домам как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aylor and Francis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iley Blackwell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ringer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lsevie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д. Они располагаются в таких странах как Англия, США, Германия и Нидерла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держание жур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ждународный соста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нализ ци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щественны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уманитарные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Электронные журна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9640" y="103788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Й ОСОБЕН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убликации статей в журналах, претендующих на включение в международные базы данных компании, является ее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ая должна включать в себя следующие разделы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ведение или литературный обз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четко сформулированную цель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метод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сновные результаты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79280" y="2780640"/>
            <a:ext cx="878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клад окончен, спасибо за вним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3:46:01Z</dcterms:created>
  <dc:creator>dshajkin</dc:creator>
  <dc:description/>
  <dc:language>en-US</dc:language>
  <cp:lastModifiedBy>notebook red</cp:lastModifiedBy>
  <dcterms:modified xsi:type="dcterms:W3CDTF">2014-02-26T03:09:05Z</dcterms:modified>
  <cp:revision>35</cp:revision>
  <dc:subject/>
  <dc:title>Слайд 1</dc:title>
</cp:coreProperties>
</file>