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866E-E70A-4EC9-BF19-7FEBDB8A3696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DD24-3839-45E3-98F7-0F8F6C36A2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75FC-F68A-4BD1-AB6D-CFB1AC17F0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A7AF-6E33-4C8E-A933-93B0061F9B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C5A-4814-4F71-80D9-3BBA7536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E32E-536A-42B1-B5C6-3C5A3B46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467-D852-46AE-85E8-9F4E8EEF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7B68-0F1C-4A23-B1A1-71E0BB19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738-0821-44A0-B68D-15DFFE35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D8D7-22B6-45D2-B12C-B00DEAB7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E77-B99F-4128-A8E4-C1DDF306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9F7E-9234-448B-81E1-DDB261A3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067-0F55-4256-92C5-44C8AE94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289-FC31-4E6C-902A-D003EA09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1F2-74EA-4089-BF25-DA160DB2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624-6995-4BED-B166-549D4ABD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63FB-1138-4D0E-A2EA-3856B1544B0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1D55-5D74-44A4-8505-C7E44C735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p-science.thomsonreuters.com/info/journalsubmission/" TargetMode="External"/><Relationship Id="rId2" Type="http://schemas.openxmlformats.org/officeDocument/2006/relationships/hyperlink" Target="http://ip-science.thomsonreuters.com/info/journalsubmission/" TargetMode="External"/><Relationship Id="rId3" Type="http://schemas.openxmlformats.org/officeDocument/2006/relationships/hyperlink" Target="http://ip-science.thomsonreuters.com/info/journalsubmission/" TargetMode="External"/><Relationship Id="rId4" Type="http://schemas.openxmlformats.org/officeDocument/2006/relationships/hyperlink" Target="http://ip-science.thomsonreuters.com/info/journalsubmission/" TargetMode="External"/><Relationship Id="rId5" Type="http://schemas.openxmlformats.org/officeDocument/2006/relationships/hyperlink" Target="http://ip-science.thomsonreuters.com/info/journalsubmission/" TargetMode="External"/><Relationship Id="rId6" Type="http://schemas.openxmlformats.org/officeDocument/2006/relationships/hyperlink" Target="http://ip-science.thomsonreuters.com/info/journalsubmission/" TargetMode="External"/><Relationship Id="rId7" Type="http://schemas.openxmlformats.org/officeDocument/2006/relationships/hyperlink" Target="http://ip-science.thomsonreuters.com/info/journalsubmission/" TargetMode="External"/><Relationship Id="rId8" Type="http://schemas.openxmlformats.org/officeDocument/2006/relationships/hyperlink" Target="http://ip-science.thomsonreuters.com/info/journalsubmission/" TargetMode="External"/><Relationship Id="rId9" Type="http://schemas.openxmlformats.org/officeDocument/2006/relationships/hyperlink" Target="http://ip-science.thomsonreuters.com/info/journalsubmission/" TargetMode="External"/><Relationship Id="rId10" Type="http://schemas.openxmlformats.org/officeDocument/2006/relationships/hyperlink" Target="http://ip-science.thomsonreuters.com/info/journalsubmission/" TargetMode="External"/><Relationship Id="rId11" Type="http://schemas.openxmlformats.org/officeDocument/2006/relationships/hyperlink" Target="http://ip-science.thomsonreuters.com/info/journalsubmission/" TargetMode="External"/><Relationship Id="rId12" Type="http://schemas.openxmlformats.org/officeDocument/2006/relationships/hyperlink" Target="http://ip-science.thomsonreuters.com/info/journalsubmission/" TargetMode="External"/><Relationship Id="rId13" Type="http://schemas.openxmlformats.org/officeDocument/2006/relationships/hyperlink" Target="http://ip-science.thomsonreuters.com/info/journalsubmission/" TargetMode="External"/><Relationship Id="rId14" Type="http://schemas.openxmlformats.org/officeDocument/2006/relationships/hyperlink" Target="http://ip-science.thomsonreuters.com/info/journalsubmission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pscience.thomsonreuters.com/info/jrneval-status/" TargetMode="External"/><Relationship Id="rId2" Type="http://schemas.openxmlformats.org/officeDocument/2006/relationships/hyperlink" Target="http://ipscience.thomsonreuters.com/info/jrneval-status/" TargetMode="External"/><Relationship Id="rId3" Type="http://schemas.openxmlformats.org/officeDocument/2006/relationships/hyperlink" Target="http://ipscience.thomsonreuters.com/info/jrneval-status/" TargetMode="External"/><Relationship Id="rId4" Type="http://schemas.openxmlformats.org/officeDocument/2006/relationships/hyperlink" Target="http://ipscience.thomsonreuters.com/info/jrneval-status/" TargetMode="External"/><Relationship Id="rId5" Type="http://schemas.openxmlformats.org/officeDocument/2006/relationships/hyperlink" Target="http://ipscience.thomsonreuters.com/info/jrneval-status/" TargetMode="External"/><Relationship Id="rId6" Type="http://schemas.openxmlformats.org/officeDocument/2006/relationships/hyperlink" Target="http://ipscience.thomsonreuters.com/info/jrneval-status/" TargetMode="External"/><Relationship Id="rId7" Type="http://schemas.openxmlformats.org/officeDocument/2006/relationships/hyperlink" Target="http://ipscience.thomsonreuters.com/info/jrneval-status/" TargetMode="External"/><Relationship Id="rId8" Type="http://schemas.openxmlformats.org/officeDocument/2006/relationships/hyperlink" Target="http://ipscience.thomsonreuters.com/info/jrneval-status/" TargetMode="External"/><Relationship Id="rId9" Type="http://schemas.openxmlformats.org/officeDocument/2006/relationships/hyperlink" Target="http://ipscience.thomsonreuters.com/info/jrneval-status/" TargetMode="External"/><Relationship Id="rId10" Type="http://schemas.openxmlformats.org/officeDocument/2006/relationships/hyperlink" Target="http://ipscience.thomsonreuters.com/info/jrneval-status/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lsevier.com/" TargetMode="External"/><Relationship Id="rId2" Type="http://schemas.openxmlformats.org/officeDocument/2006/relationships/hyperlink" Target="http://www.elsevier.com/" TargetMode="External"/><Relationship Id="rId3" Type="http://schemas.openxmlformats.org/officeDocument/2006/relationships/hyperlink" Target="http://www.elsevier.com/" TargetMode="External"/><Relationship Id="rId4" Type="http://schemas.openxmlformats.org/officeDocument/2006/relationships/hyperlink" Target="http://www.elsevier.com/" TargetMode="External"/><Relationship Id="rId5" Type="http://schemas.openxmlformats.org/officeDocument/2006/relationships/hyperlink" Target="http://www.elsevier.com/" TargetMode="External"/><Relationship Id="rId6" Type="http://schemas.openxmlformats.org/officeDocument/2006/relationships/hyperlink" Target="http://www.editorialmanager.com/" TargetMode="External"/><Relationship Id="rId7" Type="http://schemas.openxmlformats.org/officeDocument/2006/relationships/hyperlink" Target="http://www.editorialmanager.com/" TargetMode="External"/><Relationship Id="rId8" Type="http://schemas.openxmlformats.org/officeDocument/2006/relationships/hyperlink" Target="http://www.editorialmanager.com/" TargetMode="External"/><Relationship Id="rId9" Type="http://schemas.openxmlformats.org/officeDocument/2006/relationships/hyperlink" Target="http://www.editorialmanager.com/" TargetMode="External"/><Relationship Id="rId10" Type="http://schemas.openxmlformats.org/officeDocument/2006/relationships/hyperlink" Target="http://www.editorialmanager.com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1620360"/>
            <a:ext cx="8785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 принципах включения журнала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в международные базы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Шайкин Д.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еверо-Казахстанский государственный университ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м. М. Козыба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600" y="414720"/>
            <a:ext cx="9131400" cy="47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дре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торый издател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гу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ыла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урнал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ценк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отбора в базу данных компа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mson Reuters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едующи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ation Processing, Thomson Reuters, 1500 Spring Garden Street, Fourth Floor, Philadelphia, PA 19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правки электронных публикаций необходимо заполнить специальную форму н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ip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-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science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thomsonreuters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.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com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/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info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journalsubmission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/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2600" y="1458360"/>
            <a:ext cx="9131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информацию о стату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равленной заявки по включению журн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зу данных компани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mson Re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осредством отправки запроса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ipscience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thomsonreuters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com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info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jrneval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status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79280" y="379800"/>
            <a:ext cx="8875800" cy="60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основные принципы отбора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новные стандарты публик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значение здесь име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пертная оценка (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er review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ельно, чтобы статьи, подаваемые в журнал, претендующий на включение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у данных компан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mson Reuter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или экспертную оценку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 review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екомендуются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elsevier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com</a:t>
            </a: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www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editorialmanager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com</a:t>
            </a: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mc</a:t>
            </a:r>
            <a:r>
              <a:rPr b="1" lang="ru-RU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en-US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manuscriptcentral</a:t>
            </a:r>
            <a:r>
              <a:rPr b="1" lang="ru-RU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en-US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обные им). Указанные провайдеры принадлежат таким издательским домам как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aylor and Francis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iley Blackwell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ringer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lsevie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.д. Они располагаются в таких странах как Англия, США, Германия и Нидерла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держание жур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еждународный соста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Анализ цит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щественные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уманитарные на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Электронные журна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539640" y="103788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ОЙ ОСОБЕННОСТ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убликации статей в журналах, претендующих на включение в международные базы данных компании, является ее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трукту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ая должна включать в себя следующие разделы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введение или литературный обз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четко сформулированную цель ис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метод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основные результаты ис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79280" y="2780640"/>
            <a:ext cx="878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оклад окончен, спасибо за внима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3:46:01Z</dcterms:created>
  <dc:creator>dshajkin</dc:creator>
  <dc:description/>
  <dc:language>en-US</dc:language>
  <cp:lastModifiedBy>notebook red</cp:lastModifiedBy>
  <dcterms:modified xsi:type="dcterms:W3CDTF">2014-02-26T03:09:05Z</dcterms:modified>
  <cp:revision>35</cp:revision>
  <dc:subject/>
  <dc:title>Слайд 1</dc:title>
</cp:coreProperties>
</file>