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626C-8EDD-4FB0-9E39-8E500D47789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B27B-E2F2-4588-B121-6DE1773C9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B827-0447-4300-B095-7DF493760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9F8C-DF51-4F89-8311-D7D31EF0F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77F-E232-4027-80CA-4CE14B05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3EA-985E-4F73-AF29-CB1538FF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69B-4DBA-4A12-9052-B30A4209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F80-9A55-4F17-AE79-8A949DF9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B1A-28A7-40F1-A97D-B8189BF0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069-54B7-445E-B3CA-0926D26D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F68-DB37-4343-A631-9AF2BE17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97B-4379-413A-9119-1A5C0FDC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3EE-D893-45F6-A4E3-6AAE90E8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DD3-A5AF-4AFB-BE41-B2F8B09E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252-046D-406E-8385-E1497DC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915-EACC-4990-AFE6-0C8BE517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AF9A-D3BB-4107-8773-98474C8E769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7A3-2A7A-4B58-AAD5-FE0541964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p-science.thomsonreuters.com/info/journalsubmission/" TargetMode="External"/><Relationship Id="rId2" Type="http://schemas.openxmlformats.org/officeDocument/2006/relationships/hyperlink" Target="http://ip-science.thomsonreuters.com/info/journalsubmission/" TargetMode="External"/><Relationship Id="rId3" Type="http://schemas.openxmlformats.org/officeDocument/2006/relationships/hyperlink" Target="http://ip-science.thomsonreuters.com/info/journalsubmission/" TargetMode="External"/><Relationship Id="rId4" Type="http://schemas.openxmlformats.org/officeDocument/2006/relationships/hyperlink" Target="http://ip-science.thomsonreuters.com/info/journalsubmission/" TargetMode="External"/><Relationship Id="rId5" Type="http://schemas.openxmlformats.org/officeDocument/2006/relationships/hyperlink" Target="http://ip-science.thomsonreuters.com/info/journalsubmission/" TargetMode="External"/><Relationship Id="rId6" Type="http://schemas.openxmlformats.org/officeDocument/2006/relationships/hyperlink" Target="http://ip-science.thomsonreuters.com/info/journalsubmission/" TargetMode="External"/><Relationship Id="rId7" Type="http://schemas.openxmlformats.org/officeDocument/2006/relationships/hyperlink" Target="http://ip-science.thomsonreuters.com/info/journalsubmission/" TargetMode="External"/><Relationship Id="rId8" Type="http://schemas.openxmlformats.org/officeDocument/2006/relationships/hyperlink" Target="http://ip-science.thomsonreuters.com/info/journalsubmission/" TargetMode="External"/><Relationship Id="rId9" Type="http://schemas.openxmlformats.org/officeDocument/2006/relationships/hyperlink" Target="http://ip-science.thomsonreuters.com/info/journalsubmission/" TargetMode="External"/><Relationship Id="rId10" Type="http://schemas.openxmlformats.org/officeDocument/2006/relationships/hyperlink" Target="http://ip-science.thomsonreuters.com/info/journalsubmission/" TargetMode="External"/><Relationship Id="rId11" Type="http://schemas.openxmlformats.org/officeDocument/2006/relationships/hyperlink" Target="http://ip-science.thomsonreuters.com/info/journalsubmission/" TargetMode="External"/><Relationship Id="rId12" Type="http://schemas.openxmlformats.org/officeDocument/2006/relationships/hyperlink" Target="http://ip-science.thomsonreuters.com/info/journalsubmission/" TargetMode="External"/><Relationship Id="rId13" Type="http://schemas.openxmlformats.org/officeDocument/2006/relationships/hyperlink" Target="http://ip-science.thomsonreuters.com/info/journalsubmission/" TargetMode="External"/><Relationship Id="rId14" Type="http://schemas.openxmlformats.org/officeDocument/2006/relationships/hyperlink" Target="http://ip-science.thomsonreuters.com/info/journalsubmission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pscience.thomsonreuters.com/info/jrneval-status/" TargetMode="External"/><Relationship Id="rId2" Type="http://schemas.openxmlformats.org/officeDocument/2006/relationships/hyperlink" Target="http://ipscience.thomsonreuters.com/info/jrneval-status/" TargetMode="External"/><Relationship Id="rId3" Type="http://schemas.openxmlformats.org/officeDocument/2006/relationships/hyperlink" Target="http://ipscience.thomsonreuters.com/info/jrneval-status/" TargetMode="External"/><Relationship Id="rId4" Type="http://schemas.openxmlformats.org/officeDocument/2006/relationships/hyperlink" Target="http://ipscience.thomsonreuters.com/info/jrneval-status/" TargetMode="External"/><Relationship Id="rId5" Type="http://schemas.openxmlformats.org/officeDocument/2006/relationships/hyperlink" Target="http://ipscience.thomsonreuters.com/info/jrneval-status/" TargetMode="External"/><Relationship Id="rId6" Type="http://schemas.openxmlformats.org/officeDocument/2006/relationships/hyperlink" Target="http://ipscience.thomsonreuters.com/info/jrneval-status/" TargetMode="External"/><Relationship Id="rId7" Type="http://schemas.openxmlformats.org/officeDocument/2006/relationships/hyperlink" Target="http://ipscience.thomsonreuters.com/info/jrneval-status/" TargetMode="External"/><Relationship Id="rId8" Type="http://schemas.openxmlformats.org/officeDocument/2006/relationships/hyperlink" Target="http://ipscience.thomsonreuters.com/info/jrneval-status/" TargetMode="External"/><Relationship Id="rId9" Type="http://schemas.openxmlformats.org/officeDocument/2006/relationships/hyperlink" Target="http://ipscience.thomsonreuters.com/info/jrneval-status/" TargetMode="External"/><Relationship Id="rId10" Type="http://schemas.openxmlformats.org/officeDocument/2006/relationships/hyperlink" Target="http://ipscience.thomsonreuters.com/info/jrneval-status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lsevier.com/" TargetMode="External"/><Relationship Id="rId2" Type="http://schemas.openxmlformats.org/officeDocument/2006/relationships/hyperlink" Target="http://www.elsevier.com/" TargetMode="External"/><Relationship Id="rId3" Type="http://schemas.openxmlformats.org/officeDocument/2006/relationships/hyperlink" Target="http://www.elsevier.com/" TargetMode="External"/><Relationship Id="rId4" Type="http://schemas.openxmlformats.org/officeDocument/2006/relationships/hyperlink" Target="http://www.elsevier.com/" TargetMode="External"/><Relationship Id="rId5" Type="http://schemas.openxmlformats.org/officeDocument/2006/relationships/hyperlink" Target="http://www.elsevier.com/" TargetMode="External"/><Relationship Id="rId6" Type="http://schemas.openxmlformats.org/officeDocument/2006/relationships/hyperlink" Target="http://www.editorialmanager.com/" TargetMode="External"/><Relationship Id="rId7" Type="http://schemas.openxmlformats.org/officeDocument/2006/relationships/hyperlink" Target="http://www.editorialmanager.com/" TargetMode="External"/><Relationship Id="rId8" Type="http://schemas.openxmlformats.org/officeDocument/2006/relationships/hyperlink" Target="http://www.editorialmanager.com/" TargetMode="External"/><Relationship Id="rId9" Type="http://schemas.openxmlformats.org/officeDocument/2006/relationships/hyperlink" Target="http://www.editorialmanager.com/" TargetMode="External"/><Relationship Id="rId10" Type="http://schemas.openxmlformats.org/officeDocument/2006/relationships/hyperlink" Target="http://www.editorialmanager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1620360"/>
            <a:ext cx="8785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 принципах включения журнала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в международные баз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Шайкин Д.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веро-Казахстанский государственный универс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м. М. Козыб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600" y="414720"/>
            <a:ext cx="913140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торый издате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ыла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урнал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бора в базу данных комп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son Reuters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ующ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ation Processing, Thomson Reuters, 1500 Spring Garden Street, Fourth Floor, Philadelphia, PA 19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правки электронных публикаций необходимо заполнить специальную форму 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p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-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cience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thomsonreuters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com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info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journalsubmission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600" y="1458360"/>
            <a:ext cx="913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информацию о стату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енной заявки по включению журн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зу данных компани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son Re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осредством отправки запрос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pscience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thomsonreuters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com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info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jrneval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status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79280" y="379800"/>
            <a:ext cx="887580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новные принципы отбора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стандарты публ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значение здесь име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тная оценка (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er review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, чтобы статьи, подаваемые в журнал, претендующий на включение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 данных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son Reuter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или экспертную оценку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 revie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комендуются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elsevi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editorialmanag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mc</a:t>
            </a:r>
            <a:r>
              <a:rPr b="1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manuscriptcentral</a:t>
            </a:r>
            <a:r>
              <a:rPr b="1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обные им). Указанные провайдеры принадлежат таким издательским домам как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aylor and Francis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iley Blackwell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ringer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lsevie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 Они располагаются в таких странах как Англия, США, Германия и Нидерл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держание жур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ждународный сост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ализ ци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щественны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уманитарные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Электронные журна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9640" y="10378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Й ОСОБЕН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убликации статей в журналах, претендующих на включение в международные базы данных компании, является ее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ая должна включать в себя следующие разделы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ведение или литературный обз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четко сформулированную цель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метод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сновные результаты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79280" y="2780640"/>
            <a:ext cx="878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клад окончен, спасибо за вним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3:46:01Z</dcterms:created>
  <dc:creator>dshajkin</dc:creator>
  <dc:description/>
  <dc:language>en-US</dc:language>
  <cp:lastModifiedBy>notebook red</cp:lastModifiedBy>
  <dcterms:modified xsi:type="dcterms:W3CDTF">2014-02-26T03:09:05Z</dcterms:modified>
  <cp:revision>35</cp:revision>
  <dc:subject/>
  <dc:title>Слайд 1</dc:title>
</cp:coreProperties>
</file>