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F93E-0109-4362-9129-FCE235654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7997-A116-44E0-92A2-AF6B0801A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F177C-69F2-435B-8F8A-7839598739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D078-C5F3-45FB-9B9D-B2EF9757B7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F344D-56BE-4C87-826A-7D566484A4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FDC0-88F1-43E0-8420-F7465FFC6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987BA-E7F1-4669-B1AD-ED6686403AB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56C9-3553-4864-9054-2A50FD7BE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BCEFC-162B-46F2-A5CB-9F075A4096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0ED5-929C-4A11-AE7B-A90A8FABC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B25A2-A7B1-471A-9F57-CD118FB548B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CF9C-A4F3-4B92-9135-1E7D8945E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E0670-1A54-4F47-B4C6-42EA74C0E42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7024-9C75-498E-A3A7-201F5A4200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EA7D4-BBEF-460A-BAE6-891842E8A74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2769-DCF4-49A2-A43F-593369C0E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39313-58DE-4D95-BD94-E62CB64C43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6BD8-670E-4B16-8F40-DB2B2549AC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D949-3C91-4A30-8D73-500AA59D942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D2E1-7D57-4CA2-BBF1-A5024D1D0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3946A-E80B-4077-86D4-BA01D9E90B2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92C0-2175-497A-82E2-307B155E10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6139D-07DD-419B-A72F-B8BF3BF9FAD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79DE-A6FF-4A31-AB9A-37A15F06E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E3A9E-AF0E-4CF5-A34C-6730319CD6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2A2B-9C0E-4C05-8350-E5C2AC48C2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8D754-4BEC-40EA-B4AB-4936242D012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ECA4-1B19-46FC-BF2F-7179B17C54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EBECA-A2B4-4D6E-98CE-7247AA9CB5D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FDAC-0D01-4660-AD30-7C04086E4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EC216-69A8-4B95-8685-93EB213C62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2D7-F314-44FC-A6E5-82E11890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D60-AC17-45F5-84BD-FD1E6CC8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2AA-342E-4495-A5D0-DAB35160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383-DDC2-43B7-A555-501B3986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AD7-8999-441C-9B01-708FB290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3E0-6479-494A-A22C-68502048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193-B221-4185-A329-33658DBC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BA9-82AF-4E65-8747-5A4FD68A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E45-732C-482E-B764-D96AB283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F45-10E3-462A-9DD4-B36D05BF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9E0-4F43-48B8-B2B3-2B9D421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D1C-E794-4B5C-B2D4-84151D1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EACA-EBB7-4281-A128-CE87B9C68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857320" y="4240080"/>
            <a:ext cx="35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офессор Мансуров З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66840" y="415800"/>
            <a:ext cx="8496000" cy="5477040"/>
          </a:xfrm>
          <a:prstGeom prst="rect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0" y="0"/>
            <a:ext cx="8730720" cy="5798880"/>
            <a:chOff x="0" y="0"/>
            <a:chExt cx="8730720" cy="5798880"/>
          </a:xfrm>
        </p:grpSpPr>
        <p:sp>
          <p:nvSpPr>
            <p:cNvPr id="51" name="Freeform 6"/>
            <p:cNvSpPr/>
            <p:nvPr/>
          </p:nvSpPr>
          <p:spPr>
            <a:xfrm>
              <a:off x="60840" y="65880"/>
              <a:ext cx="8669880" cy="5733000"/>
            </a:xfrm>
            <a:custGeom>
              <a:avLst/>
              <a:gdLst>
                <a:gd name="textAreaLeft" fmla="*/ 0 w 8669880"/>
                <a:gd name="textAreaRight" fmla="*/ 8670240 w 8669880"/>
                <a:gd name="textAreaTop" fmla="*/ 0 h 5733000"/>
                <a:gd name="textAreaBottom" fmla="*/ 5733360 h 5733000"/>
              </a:gdLst>
              <a:ahLst/>
              <a:rect l="textAreaLeft" t="textAreaTop" r="textAreaRight" b="textAreaBottom"/>
              <a:pathLst>
                <a:path w="5543" h="3313">
                  <a:moveTo>
                    <a:pt x="194" y="3155"/>
                  </a:moveTo>
                  <a:lnTo>
                    <a:pt x="0" y="3148"/>
                  </a:lnTo>
                  <a:lnTo>
                    <a:pt x="0" y="174"/>
                  </a:lnTo>
                  <a:lnTo>
                    <a:pt x="221" y="168"/>
                  </a:lnTo>
                  <a:lnTo>
                    <a:pt x="221" y="0"/>
                  </a:lnTo>
                  <a:lnTo>
                    <a:pt x="5353" y="2"/>
                  </a:lnTo>
                  <a:lnTo>
                    <a:pt x="5349" y="184"/>
                  </a:lnTo>
                  <a:lnTo>
                    <a:pt x="5517" y="176"/>
                  </a:lnTo>
                  <a:lnTo>
                    <a:pt x="5543" y="3148"/>
                  </a:lnTo>
                  <a:lnTo>
                    <a:pt x="5367" y="3148"/>
                  </a:lnTo>
                  <a:lnTo>
                    <a:pt x="5367" y="3306"/>
                  </a:lnTo>
                  <a:lnTo>
                    <a:pt x="194" y="3313"/>
                  </a:lnTo>
                  <a:lnTo>
                    <a:pt x="194" y="3155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7"/>
            <p:cNvGrpSpPr/>
            <p:nvPr/>
          </p:nvGrpSpPr>
          <p:grpSpPr>
            <a:xfrm>
              <a:off x="0" y="0"/>
              <a:ext cx="1126080" cy="1245600"/>
              <a:chOff x="0" y="0"/>
              <a:chExt cx="1126080" cy="1245600"/>
            </a:xfrm>
          </p:grpSpPr>
          <p:sp>
            <p:nvSpPr>
              <p:cNvPr id="53" name="Oval 8"/>
              <p:cNvSpPr/>
              <p:nvPr/>
            </p:nvSpPr>
            <p:spPr>
              <a:xfrm>
                <a:off x="0" y="0"/>
                <a:ext cx="1126080" cy="1245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9"/>
              <p:cNvSpPr/>
              <p:nvPr/>
            </p:nvSpPr>
            <p:spPr>
              <a:xfrm>
                <a:off x="0" y="0"/>
                <a:ext cx="1126080" cy="1245600"/>
              </a:xfrm>
              <a:prstGeom prst="ellipse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5" name="Object 10"/>
              <p:cNvGraphicFramePr/>
              <p:nvPr/>
            </p:nvGraphicFramePr>
            <p:xfrm>
              <a:off x="225000" y="166320"/>
              <a:ext cx="659880" cy="90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5000" y="166320"/>
                        <a:ext cx="659880" cy="90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7" name="Rectangle 16"/>
          <p:cNvSpPr/>
          <p:nvPr/>
        </p:nvSpPr>
        <p:spPr>
          <a:xfrm>
            <a:off x="384120" y="4714920"/>
            <a:ext cx="83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лм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26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февраля 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1138320" y="483120"/>
            <a:ext cx="72975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ого стола на тему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КЛЮЧЕНИЕ КАЗАХСТАНСКИХ НАУЧНЫХ ЖУРНАЛОВ В МЕЖДУНАРОДНЫЕ ИНФОРМАЦИОННЫЕ РЕСУРСЫ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БЛЕМЫ И ПУТИ ИХ РЕШ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655920" y="3714840"/>
            <a:ext cx="80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б издании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Eurasian Chemico-Technological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http://www.inti.kz/wp-content/uploads/2013/05/LOGO-RU.png"/>
          <p:cNvPicPr/>
          <p:nvPr/>
        </p:nvPicPr>
        <p:blipFill>
          <a:blip r:embed="rId3"/>
          <a:stretch/>
        </p:blipFill>
        <p:spPr>
          <a:xfrm>
            <a:off x="1428840" y="2058840"/>
            <a:ext cx="2925720" cy="89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Elsevierlogo_3000"/>
          <p:cNvPicPr/>
          <p:nvPr/>
        </p:nvPicPr>
        <p:blipFill>
          <a:blip r:embed="rId4"/>
          <a:stretch/>
        </p:blipFill>
        <p:spPr>
          <a:xfrm>
            <a:off x="6996240" y="2041560"/>
            <a:ext cx="1108080" cy="97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93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6"/>
          <p:cNvSpPr/>
          <p:nvPr/>
        </p:nvSpPr>
        <p:spPr>
          <a:xfrm>
            <a:off x="1380960" y="0"/>
            <a:ext cx="62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 что обращает внимание редактор журна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0" y="20289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ходит ли да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атья моему журна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5391000" y="203832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. Форм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едставленная стать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ообщение, пол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атья, обзор или  что-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н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89120" y="3895560"/>
            <a:ext cx="786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Ы СТАТЬИ ДОЛЖНЫ ИМЕТЬ ЯСНОЕ ПРЕДСТАВЛЕНИЕ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ыбранный журнал публикует статьи по темати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 которой специализируется ав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100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0"/>
          <p:cNvSpPr/>
          <p:nvPr/>
        </p:nvSpPr>
        <p:spPr>
          <a:xfrm>
            <a:off x="0" y="466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ле предварительной проверки области и формата статьи, следует более тщательное изучение по следующим критер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992880" y="2371680"/>
            <a:ext cx="7064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личие от предыдущ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ажность статьи для исследов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сколько обоснована новизн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сколько интересны результаты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итательской ауд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105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6"/>
          <p:cNvSpPr/>
          <p:nvPr/>
        </p:nvSpPr>
        <p:spPr>
          <a:xfrm>
            <a:off x="2480400" y="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бор реценз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-10440" y="714240"/>
            <a:ext cx="92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чество научной работы зависит от выбора квалифицированного реценз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3640" y="1619280"/>
            <a:ext cx="9219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практике имеется три вариа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едложение от самих ав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едложение от других реценз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едложение от членов редакционной колле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журн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111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9"/>
          <p:cNvSpPr/>
          <p:nvPr/>
        </p:nvSpPr>
        <p:spPr>
          <a:xfrm>
            <a:off x="2003400" y="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ЯЗАТЕЛЬСТВА РЕЦЕНЗ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0" y="58104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хранение конфиденциальности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воевременное уведомление редактора о невозможности дать рецензию ввиду  неполноты квалификации по данному вопрос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ективная оценка работы и своевременность предоставления реценз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звращение работы редактору без рецензии в случае конфликтов интере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ргументированное объяснение замечаний с соответствующими ссылками, где это возмож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 использовать результаты работы в собственных целях или рабо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формирование редактора о схожестях результатов представленной статьи с опубликованными или еще не опубликованными работ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формирование редактора о плагиате или фальсифицировани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116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7"/>
          <p:cNvSpPr/>
          <p:nvPr/>
        </p:nvSpPr>
        <p:spPr>
          <a:xfrm>
            <a:off x="27360" y="0"/>
            <a:ext cx="86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цензент должен дать исчерпывающие ответы на следующи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0" y="64764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ли работа новой и оригиналь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ли важной мотивация стат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тверждены ли результаты и заключение да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ются ли результаты ва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рушены ли этические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ются ли в статье недостатки и/или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ходимо ли что-либо добавить или изъять из стат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ускается ли статья к опубликованию или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121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6"/>
          <p:cNvSpPr/>
          <p:nvPr/>
        </p:nvSpPr>
        <p:spPr>
          <a:xfrm>
            <a:off x="1586160" y="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ЛАНИРОВАНИ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216080" y="961920"/>
            <a:ext cx="68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аписание статьи подразумевает создание своеобраз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рганизационной структуры из трех бло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00760" y="1838160"/>
            <a:ext cx="810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ведение – Зачем я это дела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зультаты и обсуждение – Что я сдел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ключение – К чему я приш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127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7"/>
          <p:cNvSpPr/>
          <p:nvPr/>
        </p:nvSpPr>
        <p:spPr>
          <a:xfrm>
            <a:off x="317880" y="0"/>
            <a:ext cx="868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дним из ключей к успеху является напис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проводительного пис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56240" y="1009800"/>
            <a:ext cx="863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дительное письмо является одним из основных документов,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й обращает внимание редактор, и в целом должно содерж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следующи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24840" y="2171880"/>
            <a:ext cx="7970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чему тема работы важн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чему полученные результаты существе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то является ключевым результат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ем работа отличается от предыдущ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чему работа была подана именно в этот журн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чему Вы думаете, что работа будет интересна для читател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иложите рекомендации реценз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133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7"/>
          <p:cNvSpPr/>
          <p:nvPr/>
        </p:nvSpPr>
        <p:spPr>
          <a:xfrm>
            <a:off x="3299400" y="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0" y="60948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 планировании научных исследований всегда имейте в виду, что результаты необходимо опублик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. Помните, неопубликованная работа – потерянная рабо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3. Научные исследования разнообразны, как и результаты, что влияет на количество публикаций и конкуренцию среди научных журн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4. Помните, что интерес Читателя и новизна работы являются ключом к широкому распространению статьи и, соответственно, ее цитиров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5. Конкуренция в научной среде очень жесткая, поэтому Ваша работа должна всегда выгодно отличатьс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108000" y="150840"/>
            <a:ext cx="8866080" cy="6478560"/>
            <a:chOff x="108000" y="150840"/>
            <a:chExt cx="8866080" cy="6478560"/>
          </a:xfrm>
        </p:grpSpPr>
        <p:sp>
          <p:nvSpPr>
            <p:cNvPr id="138" name="Freeform 3"/>
            <p:cNvSpPr/>
            <p:nvPr/>
          </p:nvSpPr>
          <p:spPr>
            <a:xfrm>
              <a:off x="169920" y="228600"/>
              <a:ext cx="8804160" cy="6400800"/>
            </a:xfrm>
            <a:custGeom>
              <a:avLst/>
              <a:gdLst>
                <a:gd name="textAreaLeft" fmla="*/ 0 w 8804160"/>
                <a:gd name="textAreaRight" fmla="*/ 8804520 w 88041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5504" h="4032">
                  <a:moveTo>
                    <a:pt x="193" y="3840"/>
                  </a:moveTo>
                  <a:lnTo>
                    <a:pt x="0" y="3831"/>
                  </a:lnTo>
                  <a:lnTo>
                    <a:pt x="0" y="210"/>
                  </a:lnTo>
                  <a:lnTo>
                    <a:pt x="329" y="201"/>
                  </a:lnTo>
                  <a:lnTo>
                    <a:pt x="338" y="0"/>
                  </a:lnTo>
                  <a:lnTo>
                    <a:pt x="5312" y="0"/>
                  </a:lnTo>
                  <a:lnTo>
                    <a:pt x="5312" y="174"/>
                  </a:lnTo>
                  <a:lnTo>
                    <a:pt x="5504" y="192"/>
                  </a:lnTo>
                  <a:lnTo>
                    <a:pt x="5501" y="3831"/>
                  </a:lnTo>
                  <a:lnTo>
                    <a:pt x="5326" y="3831"/>
                  </a:lnTo>
                  <a:lnTo>
                    <a:pt x="5326" y="4023"/>
                  </a:lnTo>
                  <a:lnTo>
                    <a:pt x="193" y="4032"/>
                  </a:lnTo>
                  <a:lnTo>
                    <a:pt x="193" y="3840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24000" y="333360"/>
              <a:ext cx="8496000" cy="6154920"/>
            </a:xfrm>
            <a:prstGeom prst="rect">
              <a:avLst/>
            </a:prstGeom>
            <a:noFill/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5"/>
            <p:cNvGrpSpPr/>
            <p:nvPr/>
          </p:nvGrpSpPr>
          <p:grpSpPr>
            <a:xfrm>
              <a:off x="108000" y="150840"/>
              <a:ext cx="718920" cy="757080"/>
              <a:chOff x="108000" y="150840"/>
              <a:chExt cx="718920" cy="757080"/>
            </a:xfrm>
          </p:grpSpPr>
          <p:sp>
            <p:nvSpPr>
              <p:cNvPr id="141" name="Oval 6"/>
              <p:cNvSpPr/>
              <p:nvPr/>
            </p:nvSpPr>
            <p:spPr>
              <a:xfrm>
                <a:off x="108000" y="150840"/>
                <a:ext cx="718920" cy="75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7"/>
              <p:cNvSpPr/>
              <p:nvPr/>
            </p:nvSpPr>
            <p:spPr>
              <a:xfrm>
                <a:off x="108000" y="150840"/>
                <a:ext cx="718920" cy="757080"/>
              </a:xfrm>
              <a:prstGeom prst="ellipse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43" name="Object 8"/>
              <p:cNvGraphicFramePr/>
              <p:nvPr/>
            </p:nvGraphicFramePr>
            <p:xfrm>
              <a:off x="251640" y="251640"/>
              <a:ext cx="421200" cy="549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1640" y="251640"/>
                        <a:ext cx="421200" cy="54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45" name="Text Box 9"/>
          <p:cNvSpPr/>
          <p:nvPr/>
        </p:nvSpPr>
        <p:spPr>
          <a:xfrm>
            <a:off x="291960" y="2332080"/>
            <a:ext cx="348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entury Gothic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men"/>
          <p:cNvPicPr/>
          <p:nvPr/>
        </p:nvPicPr>
        <p:blipFill>
          <a:blip r:embed="rId3"/>
          <a:stretch/>
        </p:blipFill>
        <p:spPr>
          <a:xfrm>
            <a:off x="3635280" y="581040"/>
            <a:ext cx="4975200" cy="572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КЛЮЧЕНИЕ КАЗАХСТАНСКИХ НАУЧНЫХ ЖУРНА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ЕЖДУНАРОДНЫЕ ИНФОРМАЦИОННЫЕ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Ы И ПУТИ ИХ РЕШ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9"/>
          <p:cNvSpPr/>
          <p:nvPr/>
        </p:nvSpPr>
        <p:spPr>
          <a:xfrm>
            <a:off x="-84240" y="16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4" descr="C:\Users\t_seitov\AppData\Local\Microsoft\Windows\Temporary Internet Files\Content.Outlook\WYSI7UMC\2222.jpg"/>
          <p:cNvPicPr/>
          <p:nvPr/>
        </p:nvPicPr>
        <p:blipFill>
          <a:blip r:embed="rId1"/>
          <a:stretch/>
        </p:blipFill>
        <p:spPr>
          <a:xfrm>
            <a:off x="114480" y="187200"/>
            <a:ext cx="4286160" cy="6375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5"/>
          <p:cNvSpPr/>
          <p:nvPr/>
        </p:nvSpPr>
        <p:spPr>
          <a:xfrm>
            <a:off x="4411080" y="809640"/>
            <a:ext cx="48870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ервое издание Евразий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Химико-Технолог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99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C:\Users\t_seitov\AppData\Local\Microsoft\Windows\Temporary Internet Files\Content.Outlook\WYSI7UMC\приветствие 001.jpg"/>
          <p:cNvPicPr/>
          <p:nvPr/>
        </p:nvPicPr>
        <p:blipFill>
          <a:blip r:embed="rId1"/>
          <a:stretch/>
        </p:blipFill>
        <p:spPr>
          <a:xfrm>
            <a:off x="2222640" y="0"/>
            <a:ext cx="46987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68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13" descr="C:\Users\t_seitov\AppData\Local\Microsoft\Windows\Temporary Internet Files\Content.Outlook\WYSI7UMC\редколлегия журнала.jpg"/>
          <p:cNvPicPr/>
          <p:nvPr/>
        </p:nvPicPr>
        <p:blipFill>
          <a:blip r:embed="rId1"/>
          <a:stretch/>
        </p:blipFill>
        <p:spPr>
          <a:xfrm>
            <a:off x="0" y="0"/>
            <a:ext cx="48639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2"/>
          <p:cNvSpPr/>
          <p:nvPr/>
        </p:nvSpPr>
        <p:spPr>
          <a:xfrm>
            <a:off x="4905360" y="552600"/>
            <a:ext cx="423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дакционной колле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вразий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имико-Технолог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урнала на 201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состав редколлегии журнала входят видные ученые из стран ближнего и дальнего зарубеж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73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2"/>
          <p:cNvSpPr/>
          <p:nvPr/>
        </p:nvSpPr>
        <p:spPr>
          <a:xfrm>
            <a:off x="4556160" y="22680"/>
            <a:ext cx="4587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Издание является единственным в Казахстане и странах СНГ, которое выпускается исключительно на английс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зыке и входит в базу данных Scopus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®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, издательского дома Elsevier B.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 2011 году Евразийский химико-технологический журнал получил импакт-фактор, присвоенный SCImago Journal &amp; Country Rank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®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t_seitov\AppData\Local\Microsoft\Windows\Temporary Internet Files\Content.Outlook\WYSI7UMC\обложка10.jpg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78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7"/>
          <p:cNvSpPr/>
          <p:nvPr/>
        </p:nvSpPr>
        <p:spPr>
          <a:xfrm>
            <a:off x="3257280" y="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ования к стать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1324080" y="409680"/>
            <a:ext cx="6457680" cy="64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83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" name=""/>
          <p:cNvGraphicFramePr/>
          <p:nvPr/>
        </p:nvGraphicFramePr>
        <p:xfrm>
          <a:off x="533520" y="923760"/>
          <a:ext cx="8248680" cy="5943600"/>
        </p:xfrm>
        <a:graphic>
          <a:graphicData uri="http://schemas.openxmlformats.org/drawingml/2006/table">
            <a:tbl>
              <a:tblPr/>
              <a:tblGrid>
                <a:gridCol w="428400"/>
                <a:gridCol w="4307040"/>
                <a:gridCol w="3513240"/>
              </a:tblGrid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гип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несуэ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дерл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диненные Арабские Эмир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ликобр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ра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"/>
          <p:cNvSpPr/>
          <p:nvPr/>
        </p:nvSpPr>
        <p:spPr>
          <a:xfrm>
            <a:off x="371520" y="80640"/>
            <a:ext cx="86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писок стран, подавших статьи в Евразийский Химико-Технологический Журнал в 2011-20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7"/>
          <p:cNvGrpSpPr/>
          <p:nvPr/>
        </p:nvGrpSpPr>
        <p:grpSpPr>
          <a:xfrm>
            <a:off x="3427560" y="-3098880"/>
            <a:ext cx="4587840" cy="6754680"/>
            <a:chOff x="3427560" y="-3098880"/>
            <a:chExt cx="4587840" cy="6754680"/>
          </a:xfrm>
        </p:grpSpPr>
        <p:sp>
          <p:nvSpPr>
            <p:cNvPr id="88" name="Text Box 8"/>
            <p:cNvSpPr/>
            <p:nvPr/>
          </p:nvSpPr>
          <p:spPr>
            <a:xfrm>
              <a:off x="3427560" y="-3098880"/>
              <a:ext cx="4587840" cy="67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80" rIns="6336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514320" y="3096720"/>
              <a:ext cx="4358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4"/>
          <p:cNvSpPr/>
          <p:nvPr/>
        </p:nvSpPr>
        <p:spPr>
          <a:xfrm>
            <a:off x="1713960" y="390600"/>
            <a:ext cx="59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оль международных журн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71640" y="1104840"/>
            <a:ext cx="898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диционно, журналы выполняют четыре осно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истрация – запись об авторе и его научной 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 Review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бор, контроль качества ста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анение недоста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Распределение – распространение результатов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Архивирование – управление архивами публик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09:45:58Z</dcterms:created>
  <dc:creator>Arman Mereke</dc:creator>
  <dc:description/>
  <dc:language>en-US</dc:language>
  <cp:lastModifiedBy>Мансуров Зулхаир</cp:lastModifiedBy>
  <dcterms:modified xsi:type="dcterms:W3CDTF">2014-02-26T03:44:41Z</dcterms:modified>
  <cp:revision>220</cp:revision>
  <dc:subject/>
  <dc:title>Слайд 1</dc:title>
</cp:coreProperties>
</file>